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cashreg.wav" ContentType="audio/x-wav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CA3-6934-4695-BC9C-A76D51C3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EA4-0B5F-4FCF-8E63-3EFA54BB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085-0463-45E3-B806-7CA1D7D0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53D-6F46-4F73-9D63-1E8780F4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BBF9-6D86-477F-9452-1DF2410B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60D6-8E5D-4714-86FA-5D2C6182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F26-8FC6-44D6-9411-1084A797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2676-9586-4C6F-8226-0808C86B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7FE4-DA01-48CF-8090-B34C71F2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9593-33EE-4E1E-9F1C-038C370C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60B9-94C7-4128-A5A6-805132D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79C-314A-41D5-AE34-902E9140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CE2F-D791-4315-ACD3-75AB436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DA61-D1B1-45F7-A1AC-FD04CD9B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3E37-E756-4051-AB93-E1FCB77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47B3-F0BC-44D0-8C07-2A1C8C16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443E-BBE9-4EB2-B287-774D905D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21A-2A80-4491-9B53-747C0904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398-6514-4F57-81EC-0B564647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DA6-9898-44F3-9500-B472E6E8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C62-8128-4EA3-8DB4-36097EE8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F2A-8352-4536-AA1F-579750B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B7B-E140-47D9-BE6F-844B0477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E89-BF4D-425A-A6EA-A4D91671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4FA2-C14E-49B2-85CC-349AB20B0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009A-04B4-4E5F-8716-B24EE9525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H="1">
            <a:off x="92160" y="270000"/>
            <a:ext cx="86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ZYFROWANIE INFORM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7160" y="1717560"/>
            <a:ext cx="76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yfrowanie to utajnianie treści przesyłanych wiadomości. Sposoby utajniania wiadomości i łamania zabezpieczeń stanowią pewną tajemnicę często przez długi czas nie ujawnianą, a czasem do końca pozostającą sekre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ecnie, wraz z ekspansją komputerów i internetu coraz powszechniej dane i informacje są przechowywane i przekazywane w postaci elektronicznej. By nieodpowiednie osoby nie miały do nich dostępu, szyfrowane są zarówno dane przechowywane w komputerach jak i dane i informacje przekazywane droga elektroniczną, czy operacje bankowe wykonywane z automatów bankowy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914400"/>
            <a:ext cx="69343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ypt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ekst zaszyfr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kst jaw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tekst do zaszyfr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lucz prywat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korzystywany jest do szyfrowania przez osobę prywat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lucz publicz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st ogólnodostęp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luc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rzyjęty algorytm szyfr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adomość zaszyfrowana przez dwa klucze jest trudniejsza do odszyfrow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enigma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4059360" cy="5007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95280" y="8380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3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228600"/>
            <a:ext cx="731520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1918 roku niemiecki wynalazca Arthur Scherbius opatentował maszynę szyfrującą, zwana później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igm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lanowanymi użytkownikami tej maszyny miały być głównie korporacje, wielkie firmy chcące chronić swoją korespondencję, poczty, a także inne instytucje państw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czątkowo armia niemiecka nie była zainteresowana wprowadzeniem  maszyn szyfrujących na miejsce powszechnego w tym czasie kody ręcznego, jednakże plany remilitaryzacji Republiki Weimarskiej, a także odkrycie faktu, iż służby Królestwa Brytyjskiego regularnie czytały depesze niemieckie w czasie I wojny światowej, spowodowały, że dowództwo niemieckie zdecydowało się na wprowadzenie kodu maszynowego, stanowiącego gwarancję zachowania bezpieczeństwa przekazywania inform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228600"/>
            <a:ext cx="731520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lepszona wersja Enigmy po raz pierwszy pojawiła się na wyposażeniu niemieckiej armii w 1926 roku. Była to zmieniona wersja odmiany cywilnej, którą można było nabyć na rynku. Przypuszczalnie  armia niemiecka celowo nie wycofała jej z rynku aby nie zwrócić uwagi służb specjalnych innych krajów nagłym jej zniknięci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1930 roku Enigmę rozbudowano o centralkę, która w niepomierny sposób zwiększała liczbę kombinacji szyfrów. W kolejnych latach maszyna szyfrująca Enigma przechodziła kilkakrotnie modyfikacje, znacznie zmniejszające szanse jej dekryptaż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1926 roku regularnie odczytywano kody niemieckie, ponieważ nie stosowano kodów maszynowych, później próby przechwycenia meldunków nie przyniosły żadnych pozytywnych rezultatów. Po odzyskaniu niepodległości, uformowane zostało Biuro Szyfrów. Wtedy w Instytu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228600"/>
            <a:ext cx="73152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tematyki Uniwersytetu Poznańskiego zorganizowano kurs kryptologii, który wyłonił trzech najbardziej wyróżniających się studentów. Zaproponowano  im stałą pracę w Biurze Szyfrów Sztabu Głównego Wojska Polskiego w Warszawie. Najbardziej uzdolniony ze studentów- Rejewski, zauważył występowanie pewnych charakterystycznych cech, które ujął w postaci układu równań permutacyjnych. Fakt wykorzystania wyższej matematyki stał się pierwszym w tym czasie i przełomowym elementem w rozwiązywaniu problemów szyfrów maszynowych, czyniąc Rejewskiego „ojcem” nowoczesnych ataków kryptografi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wiad francuski, gdy zauważył duże postępy Rejewskiego udostępnił mu dokumenty, dzięki którym odkryto połączenia pierwszego, drugiego a potem trzeciego wirnika. Od 1933r. Polacy odczytywali większość depesz niemieck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6600" y="609480"/>
            <a:ext cx="7947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ska była jedynym krajem na świecie, który w tym cza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siadał taką możliwoś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1938 Niemcy dodali do zestawu dwa dodatkowe wirnik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mimo nieustannych udoskonaleń Enigmy, Pols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ryptolodzy nadążali z ustaleniem dokonywanych prz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mców zm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4-26 lipca 1939r. W ośrodkach w Pyrach Polacy ujawn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jemnicę odszyfrowywania Anglikom i Francuzom. Pokaz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m wykonaną przez warszawską wytwórnię AVA kopi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nigmy,bomby i płachty Zygalskiego, które służyły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krycia połączeń wirników. Francuzi i Anglicy byli bard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koczeni i zadowoleni, tym bardziej, że Polacy przygotow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ościom po jednej kopii Enigmy i komplet innych materiał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ył to pierwszy, ale nie ostatni wkład Polaków w walk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ciw wspólnemu wrogow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03480" y="24768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EGAN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39840" y="685800"/>
            <a:ext cx="7904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eganografia jest to ukrywanie przekazywanych informacji. Ma ona podstawową wadę - przechwycenie wiadomości jest równoznaczne z jej ujawnieniem.Od czasu pojawienia się łączności drogą bezprzewodową, za pomocą fal radiowych, zaczęła mieć bardzo małe znaczenie w systemach łączności. Obecnie czasem jest wykorzystywana dzięki miniaturyzacji - możliwe jest ukrycie nawet znacznej wiadomości wcześniej zaszyfrowanej np. w kropce umieszczonej w innym tekś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ierwsze wzmianki na temat steganografii pojawiają się w historii zmagań między Grecją a Persją w V w. p.n.e. Przybierała ona różne formy np. wiadomość zapisywano na cienkim jedwabiu, robiono z niego kulkę i po oblaniu jej woskiem goniec ją połykał. Inną formą steganografii jest stosowanie „sympatycznego atramentu”- tekst nim zapisany znika, a pojawia się po ogrzaniu papi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304920"/>
            <a:ext cx="702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03480" y="65088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572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t utajnionego przekazywania wiadom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1640" y="190512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a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18288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bio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51760" y="2403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8120" y="350532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w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7920" y="3505320"/>
            <a:ext cx="14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y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yfr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880" y="3505320"/>
            <a:ext cx="18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zyfr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5560" y="2438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3505320"/>
            <a:ext cx="18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y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zyfr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6120" y="350532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w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2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838080"/>
            <a:ext cx="74073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ryptografia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to utajnienie znaczenia wiadomości, techniki szyfrowani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ryptoanaliza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zajmuje się łamaniem szyfrów- odczytywaniem utajnionych wiadomości bez znajomości wszystkich elementów sposobu szyfrowan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5000">
    <p:blinds dir="vert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9:07:42Z</dcterms:created>
  <dc:creator>ZSO PISZ</dc:creator>
  <dc:description/>
  <dc:language>en-US</dc:language>
  <cp:lastModifiedBy>LO</cp:lastModifiedBy>
  <dcterms:modified xsi:type="dcterms:W3CDTF">2004-05-17T10:23:41Z</dcterms:modified>
  <cp:revision>50</cp:revision>
  <dc:subject/>
  <dc:title>Prezentacja programu PowerPoint</dc:title>
</cp:coreProperties>
</file>