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MASZYNA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54F-DE26-4FD7-A4B3-65546C60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377-3C8F-42C2-B952-9EA5A44B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928-CDAB-4D13-BB7B-8E2785BC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3D4-1FD6-4D1D-BEC4-8FF9F20B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D48E-6754-42F5-BC8C-8017DDC8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B6F8-9894-4F97-AA7B-B31E4E00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4FB6-9647-4FFC-BBBA-53CD4CB2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965F-F42B-4B5C-8A61-10967D0A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6056-0FA7-4809-99A5-77A0913C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FCC3-6789-4516-9402-7A642C3E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ABAF-204E-4AEC-AA1B-9CCE24FD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17A-7575-4E88-858C-9DBA6F0C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5726-DAE7-4EA3-A88E-CC16FB12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6B8D-B6AC-4B45-AFFB-2AE8D1F3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AB30-BEA3-4707-A5DF-43D8303A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3287-4A9D-44BB-A2FE-A42E5A25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05A3-987F-47C7-B1CD-202B7E84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AA8-8D09-4CAA-8D00-50C00229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649-AA42-4F75-ABE6-D78B0ED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ED3-9CF3-4EFD-A1E5-85648D0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406-8543-4918-BA6C-9BC3194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69B-2255-487D-90FC-EF1A244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2CF-F347-4C48-9891-6A38BB70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541-A440-441A-A636-C302B6A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A52D-4910-45CE-98F1-D55034D5EB5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D74C-3833-4F0E-86C1-E13D49CBF14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MASZYN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MASZYN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MASZYN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MASZYN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Szyfrowanie przez podstawianie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zyfr Cezar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 kryptografii najpowszechniej stosuje się metody podstawieniowe, które polegają na zamianie liter-afabetu jawnego, innymi literami –alfabetu szyfroweg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ednym z najstarszych szyfrów podstawieniowych jest </a:t>
            </a:r>
            <a:r>
              <a:rPr b="0" lang="pl-PL" sz="2400" spc="-1" strike="noStrike" u="sng">
                <a:solidFill>
                  <a:srgbClr val="402000"/>
                </a:solidFill>
                <a:uFillTx/>
                <a:latin typeface="Times New Roman"/>
              </a:rPr>
              <a:t>szyfr Cezara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76964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25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325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825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osób szyfrowan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79200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zyfr Cezar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838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2000"/>
              </a:buClr>
              <a:buSzPct val="9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.Zaszyfruj: Myślę, więc jest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02000"/>
              </a:buClr>
              <a:buSzPct val="9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.Odszyfruj: ZGÓLZLFLZL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25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25"/>
                            </p:stCondLst>
                            <p:childTnLst>
                              <p:par>
                                <p:cTn id="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25"/>
                            </p:stCondLst>
                            <p:childTnLst>
                              <p:par>
                                <p:cTn id="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Szyfrowanie z użyciem słowa „klucza”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8" name="Tabelka2" descr=""/>
          <p:cNvPicPr/>
          <p:nvPr/>
        </p:nvPicPr>
        <p:blipFill>
          <a:blip r:embed="rId1"/>
          <a:stretch/>
        </p:blipFill>
        <p:spPr>
          <a:xfrm>
            <a:off x="914400" y="1879560"/>
            <a:ext cx="78487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zyfrowanie z użyciem słowa „klucza”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2971440"/>
            <a:ext cx="863604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. Odszyfruj: SCĘBMJLUŻDJPJENBMĘUĆ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1" name="tABELKA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800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7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400"/>
                            </p:stCondLst>
                            <p:childTnLst>
                              <p:par>
                                <p:cTn id="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zyfr polialfabetyczn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1828800"/>
            <a:ext cx="793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2000"/>
                </a:solidFill>
                <a:latin typeface="Times New Roman"/>
              </a:rPr>
              <a:t>Szyfr polialfabetyczny polega na zastosowaniu wielu alfabetów szyfrowych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2000"/>
                </a:solidFill>
                <a:latin typeface="Times New Roman"/>
              </a:rPr>
              <a:t>Stosuje się w nim słowo kluczowe, którego litery wyznaczają kolejne alfabety szyfrow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2000"/>
                </a:solidFill>
                <a:latin typeface="Times New Roman"/>
              </a:rPr>
              <a:t>- są nimi alfabety Cezara 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996633"/>
                </a:solidFill>
                <a:latin typeface="Times New Roman"/>
              </a:rPr>
              <a:t>Alfabet polialfabetyczn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5" name="bez tytułu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508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zyfr polialfabetyczn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04920" y="3657600"/>
            <a:ext cx="92203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. Zaszyfruj: INFORMATYK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. Odszyfruj: LRSŹŚŻKZĘNTÓRIZWYCHŚĆK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676520"/>
          <a:ext cx="79246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9246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75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1:34:01Z</dcterms:created>
  <dc:creator>w7</dc:creator>
  <dc:description/>
  <dc:language>en-US</dc:language>
  <cp:lastModifiedBy>LO</cp:lastModifiedBy>
  <dcterms:modified xsi:type="dcterms:W3CDTF">2004-05-20T12:34:56Z</dcterms:modified>
  <cp:revision>21</cp:revision>
  <dc:subject/>
  <dc:title>     Szyfr Ceza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9662836</vt:r8>
  </property>
</Properties>
</file>