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E2D-61C7-4D3A-9C5F-258297E5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8E9-DF53-425F-A171-615A534D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767-F76D-4C2F-8849-5E517EE3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273-D75E-4385-99CA-24D9A239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3FB3-A14C-47D9-816E-303E5668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7271-1C02-4E14-91A1-FA527CE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213C-C970-4518-A815-F4899B81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F140-9A27-4D51-B00B-4028A327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6F6D-E640-4A3B-AC66-4FDD13BD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9317-917B-4CA4-B028-AA017D42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4BB-4642-41AC-BD86-F80B89F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7C7-D358-4436-96F1-1BF1E9BC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2CFE-5A30-4F38-BB4A-A81FF0C0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D763-FA18-4BCA-B814-223D81F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E962-3170-4724-A463-9515BBD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8DC6-0DF6-4A85-B894-F12B2A97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1578-F627-4042-B47E-E123805E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ED8-45D8-494D-A4E8-AAEE27F0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A07-5629-4790-8728-4659BDA7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0DF-E80D-4863-A910-6AF2DA64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3B9-0D16-4850-A2BA-7B525F56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605-E727-4003-8BAB-B4AD0D3C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3B0-F032-4064-AAB1-9FD2C998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953-72EC-4F4B-A632-50E5D24A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B91A-4B05-4627-9A96-7940757AB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2E7D-11AD-42EF-8777-FB133A5CC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itam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00200" y="29714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 prezentacji metod szyfrow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ierwsza z met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95280" y="2057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zyfrowanie przez przestawia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743200"/>
            <a:ext cx="753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stawiając litery w słowie możemy otrzymać inne słowo, zwane jego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nagram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Taki sposób    szyfrowania jest uogólnieniem anagram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6400" y="457200"/>
            <a:ext cx="828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Times New Roman"/>
              </a:rPr>
              <a:t>Określ, na ile sposobów można przedstawić liter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Times New Roman"/>
              </a:rPr>
              <a:t>w słowie SZYFR? A w słowie SZYFROWANI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7120" y="1996920"/>
            <a:ext cx="78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ść przestawień liter w wyrazie wyraża funkcja zwana silni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!= 1·2·3·... ·(n - 1) ·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8440" y="2900520"/>
          <a:ext cx="2479680" cy="23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2900520"/>
                    <a:ext cx="24796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352680" y="2898720"/>
            <a:ext cx="542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la porównania, liczba protonów we Wszechświecie jest szacowana 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6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5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.6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7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 najszybsze obecnie komputery są w stanie wykonać w ciągu sekundy około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peracj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335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Metoda Pło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ga ona na zapisywaniu kolejnych liter tekstu jawnego w dwóch rzędach a następnie za kryptogram przyjmuje się ciąg kolejnych liter z pierwszego rzędu, po którym następuje ciąg kolejnych liter z drugiego rzędu. Na przykład, metoda płotu zastosowana do słowa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zyfrowan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aje następujący kryptogram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  y  r  w  n  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 f  o  a  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RWNEZFO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-2356200"/>
            <a:ext cx="914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  „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łot” w tej metodzie szyfrowania może składać się z więcej niż trzech rzędów, np.. Kryptogram powyższej wiadomości jawnej, otrzymany z użyciem trzech rzędów w „płocie”, ma postać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   f   w  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z   r   a   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y   o   n</a:t>
            </a: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SFWIZRAEY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Ćwiczeni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Zaszyfruj wyraz : kryptograf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Odszyfruj tekst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TIAAIYKLOCCMDANEGORILYHAZŁINMDYP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podpowiedź: do zaszyfrowania tekstu użyto klucza potrójnego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by odszyfrować wiadomość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rzebny jest klucz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t to liczba rzędów w płocie - dzięki niemu ten ogólny algorytm staje się konkretną procedurą szyfrowan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 kryptografii, sposoby (algorytmy) szyfrowania są powszechnie znane, tajny zaś jest klucz - newralgiczny element algorytmu szyfrujące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oda szyfrowania z użyciem płotu nie jest najlepszy przykładem bezpiecznego klucza szyfrującego, gdyż możliwych jest w niej niewiele kluczy i wszystkie łatwo można sprawdzi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8:10:55Z</dcterms:created>
  <dc:creator>w6</dc:creator>
  <dc:description/>
  <dc:language>en-US</dc:language>
  <cp:lastModifiedBy>LO</cp:lastModifiedBy>
  <dcterms:modified xsi:type="dcterms:W3CDTF">2004-05-17T10:59:11Z</dcterms:modified>
  <cp:revision>27</cp:revision>
  <dc:subject/>
  <dc:title>Witamy </dc:title>
</cp:coreProperties>
</file>